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D39E9-D42B-4F22-8412-84C3A3E7B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BCEB2-D92F-481F-A4A0-5FB590B9F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2B891-224F-42A0-B6DC-AE67C0D23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61AC9-8392-4B1B-A41E-289DAD40D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7257B-FCB4-42F7-95B0-14D392CE2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FC7E9-DB57-4DD9-881E-5FE2CCE03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2E0AF-3916-475B-B361-B2DD81977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9EE77-27A3-42DD-B8D4-CC3738C6E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31F0B-2688-4330-886D-456756EC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FCDE-0869-4EBA-9F42-8E3610CBF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EA242-690B-42B6-A56A-4074C9B70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5688E-70D7-4F3A-8FD5-AE39D3345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9D0F-09D9-4ABE-BC08-542DA6B058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124000" y="3357720"/>
            <a:ext cx="487692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iuli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8T11:02:26Z</dcterms:modified>
  <cp:revision>47</cp:revision>
  <dc:subject/>
  <dc:title>SALARIUL</dc:title>
</cp:coreProperties>
</file>